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447D-11EB-4498-A956-3C84E3A0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627-F6F7-46C4-964E-E584E3A5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9B6-1738-4F72-AB4B-BF8B2A4D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DED-7380-4058-B792-FBFFBFDE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92B8A-B9CA-4D35-826B-1140A47D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6626B-8066-4F7A-9682-57B17F9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99AA9-A8FB-4C7D-BF5F-7A9ABC70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A5CEA-7DDA-4F66-A614-1D2DBD05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A75CC-9635-4BED-9F11-E473B7DB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4A0B8-728E-4A6D-B089-08E1E7D4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92498-DA41-48B3-B94F-58E9ABBE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00A-29E6-4331-92A6-7A333D3E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6CF3A-8656-4B2A-94B1-1405830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2E019-86CF-45AF-89FD-16B7A89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D1A05-A015-42B4-B099-2D4AC62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AB96-B8D0-48C2-83FF-632C8976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6971A-0873-4B0E-99A5-FA4C978D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0FA-7CBC-42E1-80BD-C7226BBD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719-4EBE-4106-B4D0-7B2B945D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C455-55BF-4BAA-BC69-667028C2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22DD-4CFA-4E42-8C55-AA4EB439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9D60-38DD-4C3D-9FB4-B02973B0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F14-0C76-4F4C-9F39-AAFF76A6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04AF-3E6D-4F8F-9BD3-A3E6935E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2707-9C1C-4EF2-B9DF-7531D129F8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47BD-CED0-4590-925A-0473A9BC8F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Secondary-IPP-form.doc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260280"/>
            <a:ext cx="8229600" cy="6597720"/>
            <a:chOff x="457200" y="260280"/>
            <a:chExt cx="8229600" cy="65977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457200" y="260280"/>
              <a:ext cx="8229600" cy="65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260280"/>
              <a:ext cx="8229600" cy="659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Gagne’s Events of Instru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Gain attention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Inform learners of objectiv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imulate recall of prior learnin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esent the content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vide "learning guidance“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Elicit performance (practice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Provide feedback (reinforcement and assessment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93120" indent="-393120">
              <a:lnSpc>
                <a:spcPct val="90000"/>
              </a:lnSpc>
              <a:spcBef>
                <a:spcPts val="876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ssess performanc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AFTER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1.  Reflection regarding Stud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Reflection regarding the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Reflection regarding Teacher’s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Integrating results of lesson and reflection into 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0200" y="0"/>
            <a:ext cx="8713800" cy="6742080"/>
            <a:chOff x="430200" y="0"/>
            <a:chExt cx="8713800" cy="674208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430200" y="0"/>
              <a:ext cx="8713800" cy="674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 txBox="1"/>
            <p:nvPr/>
          </p:nvSpPr>
          <p:spPr>
            <a:xfrm>
              <a:off x="430200" y="0"/>
              <a:ext cx="8713800" cy="674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-11543" t="-995" r="-11543" b="-995"/>
          <a:stretch/>
        </p:blipFill>
        <p:spPr>
          <a:xfrm>
            <a:off x="395280" y="620640"/>
            <a:ext cx="820908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Internship Placement Profile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57337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How do people lear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 safe, nurturing environment fo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n environment that maximizes the probability that students will l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Make Decis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9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Make Decisions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BEFORE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Unit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UNIT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A plan to teach a series of related lessons on a particular theme (Lang, Evans,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road map created by the teacher to guide the teaching/learning activities during a specific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DURING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Instructional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ran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hysical Arrang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esson Pa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lic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oc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Ques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a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Incorpor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Refoc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770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77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1:02:13Z</dcterms:created>
  <dc:creator>Reviewer</dc:creator>
  <dc:description/>
  <dc:language>en-US</dc:language>
  <cp:lastModifiedBy>Reviewer</cp:lastModifiedBy>
  <dcterms:modified xsi:type="dcterms:W3CDTF">2009-10-25T22:00:19Z</dcterms:modified>
  <cp:revision>8</cp:revision>
  <dc:subject/>
  <dc:title>What Do Teachers Do?</dc:title>
</cp:coreProperties>
</file>